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494-78EB-4654-A68A-DC34BBD1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16D-BE84-47F2-BB83-822C6991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BBBA-EC3A-4698-8154-9C76A687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982-9D9D-4034-B3D9-A7996DA3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733-9F0C-411E-A01B-F06DD061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9CBB-7CDB-4FCA-9A60-33C6FCF3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5E7D-950D-4D8C-AB1D-0BBDD55B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11A-72EB-4C2E-AD4F-CA02E03B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0AC5-D355-49FD-9359-D2EB2D9F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7722-7376-4E03-8C39-A5F18F6D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212B-C168-4124-922E-5DF496F8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B1A-3449-4DE1-9800-B0C0512B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FB44-9539-403B-AD63-CB227553CEC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2920" y="2819520"/>
            <a:ext cx="38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ORNILLO SIN 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infin%20Fact%20Km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2924280"/>
          </a:xfrm>
          <a:prstGeom prst="rect">
            <a:avLst/>
          </a:prstGeom>
          <a:ln w="0">
            <a:noFill/>
          </a:ln>
        </p:spPr>
      </p:pic>
      <p:pic>
        <p:nvPicPr>
          <p:cNvPr id="126" name="Sinfin%20Fact%20Kv" descr=""/>
          <p:cNvPicPr/>
          <p:nvPr/>
        </p:nvPicPr>
        <p:blipFill>
          <a:blip r:embed="rId2"/>
          <a:stretch/>
        </p:blipFill>
        <p:spPr>
          <a:xfrm>
            <a:off x="1447920" y="3181320"/>
            <a:ext cx="61722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759480" y="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1066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838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12952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92440" y="1295280"/>
            <a:ext cx="159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6000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1066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838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2952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40480" y="12952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3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2514600"/>
            <a:ext cx="640080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 : potencia nominal de entrada,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idad tornillo,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elación de transmisión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/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uerza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velocidad de deslizamiento en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30440" y="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infin%20Relaciones" descr=""/>
          <p:cNvPicPr/>
          <p:nvPr/>
        </p:nvPicPr>
        <p:blipFill>
          <a:blip r:embed="rId1"/>
          <a:stretch/>
        </p:blipFill>
        <p:spPr>
          <a:xfrm>
            <a:off x="0" y="457200"/>
            <a:ext cx="5181480" cy="489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35640" y="114300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45120" y="2362320"/>
            <a:ext cx="110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9144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1371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7732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2960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773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89840" y="3276720"/>
            <a:ext cx="141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20640" y="4032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42670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4267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120" y="5305320"/>
            <a:ext cx="34527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º dientes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º entradas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50840" y="5305320"/>
            <a:ext cx="3723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: distanci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: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6320" y="0"/>
            <a:ext cx="75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gulos de presión de avance y alturas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infin%20AngAvance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82296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Sinfin%20Fzas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867280" cy="346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395040" y="45720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15200" y="91440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5120" y="1371600"/>
            <a:ext cx="272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20240" y="2063880"/>
            <a:ext cx="22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39320" y="2590920"/>
            <a:ext cx="22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38240" y="3124080"/>
            <a:ext cx="224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56920" y="3886200"/>
            <a:ext cx="530424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 : fuerza resul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omponentes ortogonales 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5400" y="457200"/>
            <a:ext cx="90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que el contacto se hace por deslizamiento y no rodad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51240" y="1676520"/>
            <a:ext cx="42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60600" y="213372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50160" y="25909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16160" y="3575160"/>
            <a:ext cx="163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10800" y="32767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6360" y="380988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38098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15880" y="4876920"/>
            <a:ext cx="14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45680" y="4572000"/>
            <a:ext cx="28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44960" y="510552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5105520"/>
            <a:ext cx="266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23720" y="152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Rendi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106668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94600" y="838080"/>
            <a:ext cx="22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sin fri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94600" y="1295280"/>
            <a:ext cx="23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con fri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228600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8480" y="2050920"/>
            <a:ext cx="20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51460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520" y="251460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t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8280" y="35812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Veloc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4114800"/>
            <a:ext cx="60984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8006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8098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518148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2670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60958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181480"/>
            <a:ext cx="1371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1814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57200" y="5181120"/>
            <a:ext cx="13716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724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257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638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3434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5257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4952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7440" y="54100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486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86040" y="4648320"/>
            <a:ext cx="45514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idad rel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. en línea de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. en línea de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Sinfin%20Rend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60195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61560" y="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914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609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5400" y="107316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52120" y="167652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167652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209680"/>
            <a:ext cx="640080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sfuerzo fl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ancho de car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 : factor de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corrección tamaño y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corrección relación de 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ancho efectivo de cara: menor valor entre ancho de cara rueda y 2/3 diámetro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infin%20Fact%20y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562720" cy="2257200"/>
          </a:xfrm>
          <a:prstGeom prst="rect">
            <a:avLst/>
          </a:prstGeom>
          <a:ln w="0">
            <a:noFill/>
          </a:ln>
        </p:spPr>
      </p:pic>
      <p:pic>
        <p:nvPicPr>
          <p:cNvPr id="124" name="Sinfin%20Fact%20ks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3818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15:59:35Z</dcterms:modified>
  <cp:revision>160</cp:revision>
  <dc:subject/>
  <dc:title>Sin título de diapositiva</dc:title>
</cp:coreProperties>
</file>